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838-B482-4F68-B38A-0090A0D4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1C-FCF6-41E4-ADC7-C476797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68A-C980-42D2-9981-8B6CADA1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472-BD69-4D2C-8A66-3C8B1547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ACC8-1524-4E0B-983D-D4467558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DEED-90EF-4C54-B6CE-221FD389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A19A-796D-4B3D-B06D-BDE1731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2CF-D05D-4D4B-B8CD-0470273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0AE6-9FE5-4D9D-B939-0426411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391-1AF1-4A76-9789-E53CFAB1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5F46-35F2-4BCB-B255-3A25180D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5DA-FB0C-4493-B903-9F6D86A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074A-CF94-4276-A84E-9A19D2F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C976-BFEE-4DFC-8CA3-4AC6FDF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FC88-ECA2-4A00-8246-8DDC2D6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1D5-36C5-44FF-831D-D101B9D6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AE6-FB9D-413B-811A-17986F72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1099-F5D4-4DDF-9414-0A8970B3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0B41-A58A-4540-9473-AAE1076C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6BA0-DA79-4ABC-8C0F-4F9E3F8E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D793-67BA-4737-A779-B7ACE45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3930-CF6D-487E-908F-3195387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DA0-3D33-4A77-BBA2-EA8268F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7781-D277-45CF-A46D-8A8784E9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3D80-7252-425E-ADFE-0D1ABF3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6059-524C-4809-9C56-F8D32C3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BCFE-AC5C-4C0F-8FB6-F9050B6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C09B-A71D-481C-9DA8-512CB7F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1A9D-A205-46BF-9A42-EF055E99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D443-88FB-43C5-B89D-2BE0B6C8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C5E4-C37C-43EF-B53A-3C0CF820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25A5-5562-41DA-8409-2712E2F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2D36-FB87-496C-A9A8-3B1A24E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9FE-E8EC-498A-A97B-C29F3BF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1B1A-8AE4-4651-BADE-864E0E91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4C99-4DB1-43ED-8DCD-1535C1A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BED32-14F7-443B-AF47-E0DAA50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5890-ABB1-472E-A037-F51AA94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EF30-26C4-4485-BD90-1C3C4C1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4660-9629-440C-BB68-23D8FEC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FB546-61F3-42E4-89C7-DB79CBE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114D-31CB-44CE-A179-63776712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D7AE-970C-4958-8690-0EAB54A9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D2-DBD6-42E5-B4A9-80443DE6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527-D16A-4B50-8BC6-D8D8374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F48-BEA4-4E94-9BA6-BE4C277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559-EE93-47A8-8A14-393B58F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EE7-2E3A-4BAE-BA69-21351E9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EBE-6E1B-421E-B0DC-518FD991A4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C7BB-6D90-4558-AD98-1312D59FF61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ADE-C57C-494D-ABCA-BF157BC8114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702-F91C-40E3-BC7D-D1BFA3379E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DB - 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 to Databas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information in the table in easy-read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like pivot tables in Ex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F062-886A-41CF-B383-9ECBFD03D1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tent Placeholder 6" descr="1.jpg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91A-7778-4A10-BA73-B553BEF75E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ress Bo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6" descr="2.bmp"/>
          <p:cNvPicPr/>
          <p:nvPr/>
        </p:nvPicPr>
        <p:blipFill>
          <a:blip r:embed="rId1"/>
          <a:stretch/>
        </p:blipFill>
        <p:spPr>
          <a:xfrm>
            <a:off x="533520" y="1828800"/>
            <a:ext cx="710064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0E5E-28F3-4936-81D1-7D17721389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609480" y="5791320"/>
            <a:ext cx="77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ook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ID:ke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, Lastname, Email, Birthd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6" descr="3.bmp"/>
          <p:cNvPicPr/>
          <p:nvPr/>
        </p:nvPicPr>
        <p:blipFill>
          <a:blip r:embed="rId1"/>
          <a:stretch/>
        </p:blipFill>
        <p:spPr>
          <a:xfrm>
            <a:off x="380880" y="7621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C0F-103E-4BB3-BBB5-B26746803B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are Spreadsheets not suffici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ata with up to hundred thousands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edit a specific recor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sear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understand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966-8364-4CA7-8DF9-66462700B5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ity:  string of how many character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typing Err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algary, Calagary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73C-C27F-4963-B26E-FEB1785B17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9633-ABF1-4F78-853B-303EACB323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72200" y="1371600"/>
          <a:ext cx="2133720" cy="366408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</a:tblGrid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l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219320"/>
          <a:ext cx="5041800" cy="4714920"/>
        </p:xfrm>
        <a:graphic>
          <a:graphicData uri="http://schemas.openxmlformats.org/drawingml/2006/table">
            <a:tbl>
              <a:tblPr/>
              <a:tblGrid>
                <a:gridCol w="1977840"/>
                <a:gridCol w="1532160"/>
                <a:gridCol w="15318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2" name="Straight Arrow Connector 9"/>
          <p:cNvCxnSpPr/>
          <p:nvPr/>
        </p:nvCxnSpPr>
        <p:spPr>
          <a:xfrm flipV="1">
            <a:off x="5562360" y="2208960"/>
            <a:ext cx="6102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3" name="TextBox 10"/>
          <p:cNvSpPr/>
          <p:nvPr/>
        </p:nvSpPr>
        <p:spPr>
          <a:xfrm>
            <a:off x="1902240" y="6019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69274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cross referenc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using a string of 20 characters (city) in hundred of thousands of  records (Employees), I used only 2 characters (City I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storage sp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ives more speed in searching as w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llow typing err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can be usually provided using combo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way used when you fill your profile while making new email or new accou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how to implement this in Exce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A6A5-101E-4306-AC48-51B2CADDC0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ant to make another table for Employee’s salary, what is the best reference to Employee 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, name, phone, address, city, o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8356-6AA5-4538-BB81-6F1B63EDD4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DD9-DD39-45A0-B9DA-21A7314055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743200" y="1676520"/>
          <a:ext cx="4876920" cy="4714920"/>
        </p:xfrm>
        <a:graphic>
          <a:graphicData uri="http://schemas.openxmlformats.org/drawingml/2006/table">
            <a:tbl>
              <a:tblPr/>
              <a:tblGrid>
                <a:gridCol w="1913040"/>
                <a:gridCol w="1482480"/>
                <a:gridCol w="14814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9" name="Straight Arrow Connector 9"/>
          <p:cNvCxnSpPr/>
          <p:nvPr/>
        </p:nvCxnSpPr>
        <p:spPr>
          <a:xfrm flipV="1">
            <a:off x="1980000" y="2971440"/>
            <a:ext cx="7628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11"/>
          <p:cNvCxnSpPr/>
          <p:nvPr/>
        </p:nvCxnSpPr>
        <p:spPr>
          <a:xfrm>
            <a:off x="1905120" y="3809520"/>
            <a:ext cx="838800" cy="839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1" name="TextBox 12"/>
          <p:cNvSpPr/>
          <p:nvPr/>
        </p:nvSpPr>
        <p:spPr>
          <a:xfrm>
            <a:off x="540720" y="3733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"/>
          <p:cNvCxnSpPr/>
          <p:nvPr/>
        </p:nvCxnSpPr>
        <p:spPr>
          <a:xfrm flipH="1">
            <a:off x="3733560" y="1294200"/>
            <a:ext cx="3816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>
            <a:off x="4114440" y="1294920"/>
            <a:ext cx="10674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Straight Arrow Connector 20"/>
          <p:cNvCxnSpPr/>
          <p:nvPr/>
        </p:nvCxnSpPr>
        <p:spPr>
          <a:xfrm>
            <a:off x="4114800" y="1294920"/>
            <a:ext cx="23630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5" name="TextBox 21"/>
          <p:cNvSpPr/>
          <p:nvPr/>
        </p:nvSpPr>
        <p:spPr>
          <a:xfrm>
            <a:off x="3967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3"/>
          <p:cNvCxnSpPr/>
          <p:nvPr/>
        </p:nvCxnSpPr>
        <p:spPr>
          <a:xfrm flipH="1">
            <a:off x="2970000" y="10681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7" name="TextBox 24"/>
          <p:cNvSpPr/>
          <p:nvPr/>
        </p:nvSpPr>
        <p:spPr>
          <a:xfrm>
            <a:off x="2445480" y="838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information about the da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living in Calg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with salary &gt; 5000$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FFF-07F4-420C-96C6-1EA0AE3DA9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editing information in tables eas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form that appears to you when you want to edit your profil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245-D84F-4ED3-88C1-F8129DFEED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9T15:27:12Z</dcterms:modified>
  <cp:revision>136</cp:revision>
  <dc:subject/>
  <dc:title>CPSC 203</dc:title>
</cp:coreProperties>
</file>